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E832-F876-4674-8F07-E780FD3E152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86AA-D716-4FB5-A296-F209BF7C3B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me of the biggest and most iconic movies and TV shows originate from Books, from Thomas the Tank Engine and Winnie the Pooh to Mary Poppins and The Little Merma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46C-ABA2-40DA-B70A-A443012BF1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EE5F-798B-49A2-9B99-A1AA88B2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9E1F4-58C8-4E82-B942-3F129D4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A6AB-63D5-4B5C-9DE9-E4EE5663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03DB6-0E18-40B2-90F6-51FA9F33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5C02B-6E98-481F-B404-D1F631E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5161-8105-4409-97F8-03BF7EF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5BA96-A419-4A4A-84B1-A66077B8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D945B-8954-464D-AF6F-EBA9870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2F67-64EB-40AD-A328-EDC0E47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5EFA0-3E67-4174-BE0C-DCFF3C19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5E8A2-A3CF-47F5-9DC5-B03A651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1DF9-909A-4B39-BE05-36AFE09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43B3B-C4BF-4BB3-930B-0EC2398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5B948-6DBF-44D3-9CE7-8E681273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BD8AD-57C2-4B81-BD96-61F22D9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5618-A7A1-4C6B-A6BA-5A43536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C895-638B-4E30-9020-FA51D46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4E314-3D9D-4454-8FC5-D8FE068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6DAC-AC67-48EA-81D3-652065FA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1A0A-5F60-4ADB-9B19-C2B4E474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3806-1EC7-491B-8AA1-BF52328D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8E2F6-F112-4BB1-B875-F733EF28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2023C-8879-4AE5-84F4-88C276D7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367AE-9E5F-4582-AA58-E3E2A7A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3B145-34C5-4DBC-AC70-C457FB0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41B1-DA2F-4AD3-992F-3D356CD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0F24-7A28-4F54-A9C7-64CB0A6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8B13-0ACF-49DC-A3C9-4A8D60E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EC8F9-FCBA-49B0-8636-106B7C4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6189B-130D-4B05-98A2-F980348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245-BB2E-4779-9DCA-021EDF7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8EF8F-1A10-4346-86B0-DD2D8A2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D7642-6DA0-466C-B4A2-99C52D4B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61AC9-3037-4AE4-A404-7A446F4B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3E5D1-FEFF-496D-B2FD-ADB76976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2EA84-8C18-47C7-BD5F-BE3C410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ACE32-8149-4D1D-A1B7-399A5B7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250DE-907A-4A30-95F8-39FB05A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97884-E372-4510-B43E-B4B8C52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9643-DB7F-4316-B445-832C179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19D1-A8B0-487A-8F96-324FCC4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53D-106D-478F-900D-3E1CCA1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C7887-2420-4EAD-9759-C78FC7B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E1097-E854-4E24-8B7A-6A5A032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E5BA1-238A-4231-A741-B399861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0E7C-8E36-4F30-8FB6-68E71403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147D0-7E52-47B6-9AD4-BD175DB3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467-3A69-4698-A569-005216F3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AA2-59FA-4200-88AF-0134B72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358-BFD5-4F65-8E4E-1517226B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59C-903A-4667-86AC-C25D2409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926-7EBE-4B68-9E41-3DF6E27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C95-A035-417B-BF76-C23EE49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F6F-2214-49FA-B80E-ECE2DE4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086-E567-485C-8CBF-CB89F80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F99-2065-4143-9062-668869C6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C38-439F-47C0-9DD1-4E0983B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4F32-6999-48D4-BF80-2A6CE97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127-DF55-4BE2-87E5-4BB1A534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F77-822A-4060-B623-B629351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722C-1C70-47E8-B450-3A1A80BF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F8EC-C82D-47BE-AB25-3195F48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14B-5286-4E07-9717-2D54046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49A-0346-459B-88AC-CC2777D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733-330A-4357-9B84-ACB4FD6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45F-6E85-438D-A6B2-0D598A9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F050-CD08-4E1B-89E0-E2E9E5F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F378-E741-4F94-BED3-F59EA28F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EA5D-C1A7-4365-8EDC-367086B0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4FD5-4975-4AFF-9606-480F2DD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09EE-79AB-4072-82F1-C4A840FE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6E22-5302-483C-973D-69B28462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1961-9917-4D64-9552-89D81AB9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D8F3-7E9D-4879-8D47-78A51C4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26B88-47DD-4DD6-AA6F-DED0B45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F489-CA09-4054-9470-D623863B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9CB5-8440-4E66-8CAE-0AE5079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922D-B01C-4FD4-83D9-567D633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44AF-1645-4525-8BF7-E17B2250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6688-001D-48BA-AEB7-C3E807CB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B538-7404-4CA0-96CE-CFD701E5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2BC9-7D31-4D08-B471-11A2DA67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D3DE-1FE2-47C9-827B-2CC8CB8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01D4-EF90-4E85-A2C1-7D80E92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A622-878E-4855-9C83-10C24F9A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6C2C-304E-4232-9BD5-6FD0CEA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1639-5F4A-4139-80DC-0000AF9A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9F5F-AC86-49CF-9876-0DF06F1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4102-1DBC-477F-82D7-CF1FF16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0D5C-D49C-4933-9C4F-84D3C9CA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8031-9C32-4A74-87BC-69DE2077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D634-EDB1-43E0-BAF0-A59E7AE2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7B8E-8E58-493A-B660-57651E63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0011-BB04-46A6-9DF2-83863621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A623-6CD6-4120-AFA7-CE27A45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CBA3-8645-4D47-BAA2-4E6615B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6A15-37A3-4D71-AF01-97F2B73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E951F-62FD-4579-8676-DFC9FBC7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A25F-2B35-4765-928E-903E302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C018-AC8D-4AD9-AB77-4B65489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DCC0-236A-46A0-A255-B779D2C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A56A-5007-400F-AE7A-514F58F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5F304-57FA-4DAA-91E6-65A9396F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FC3F-E555-4F47-91C2-78FE622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7494-A4FD-4FDB-AFCE-7C4C58ED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0FD1-2F55-481F-B1FC-55F90966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841A-E5F2-4E66-AE0C-836F3B7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25C6-665A-4C25-83CB-C8CA84F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94556-98B4-4B0D-8DC9-5722B28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752B-F828-46A0-9295-10B9AEA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EE983-C012-41F1-B2FA-277A079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F313-DEAB-4911-BB33-5129A3B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36F68-765F-48E2-9959-D89D954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4333-6A67-40B1-B533-67C35835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FB80-ECF6-4B93-9C51-E444421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C1F9-4192-434E-9EB6-4B3B4D2F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E4C5-EF7B-424A-819A-CA873A2D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262A-2A85-4E46-BCD6-2F70E418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B3CB-32EA-42F7-A919-4E4D191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FCB4-CAC6-4BC6-ADC0-CA8958A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611A-0065-494D-A91A-8D4792FE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8887-2959-4B73-A7B9-D48017C2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BF66-72FE-40CC-A84B-234A8B32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4057-56B5-4110-B947-C7AEF6A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92732-3FDC-4674-AD7B-41C2FE0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66802-3815-4096-B7D7-911882D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6DC3-EC32-4114-B5AF-DF077AE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F8D7E-8145-4502-BA43-D24C449F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EF7D5-6DE7-47F8-A6EB-B9EB18CB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E727-9C4B-44D8-89AF-D52543F4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CD91-91DB-4F26-9026-D63B347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9DEE3-60C9-4026-85CF-99A6650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751-65D9-48F9-BD21-E48FCDA8CB32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BBEC-7767-4EEC-92B4-60539FB8E8A4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3B75-92B4-4FBB-BD32-3BB595330BA4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7221-D33B-4993-8C87-C331EB65D08E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C7D-DBE3-419C-B06E-FE92586E3F38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D94-DAA6-4788-A73B-8CDBD35A6E60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DC1-508A-4529-AF94-533D7B1A46EC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912-B95F-4B01-A395-4C85715C8160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B868-B8B9-44A6-A9B3-82702A25A685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99D-3BED-4AF3-97ED-DE6C73DD25F6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63F-1A0F-4130-8717-651376145E29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EBD-5B92-4EC7-A1C7-083624E9B13D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18C0-CE74-4050-9F5D-C1A4C7FB3917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5F2-BCD1-4B74-B8EE-38C4EA8735DB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7074-5A9D-461C-86C9-00E7A61F08E8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22AE-5DC5-47F9-A32C-5EC5263E235A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F1D-D3FF-4CB7-A418-7C43C22243FA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BC78-9778-43F1-9991-AC7499743E48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2A9-C737-48E4-BFC1-06F39D8E2B87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F202-C74F-4787-A3A9-C6AF0320190D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6D8-4198-4A35-8AEC-85DEA1776C23}" type="datetime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6787-877E-402B-B083-4995C83D046C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frm=1&amp;source=images&amp;cd=&amp;cad=rja&amp;docid=J2wpGTgNcEVHPM&amp;tbnid=Y4WkvfVEo0OQPM:&amp;ved=0CAUQjRw&amp;url=http://childrenofthenineties.blogspot.com/2010/01/barney-dinosaur.html&amp;ei=gBt6UrmJIsrU0QWll4HQAg&amp;bvm=bv.55980276,d.d2k&amp;psig=AFQjCNEkrl25hAmZMupAGikhrE9MdtirDw&amp;ust=1383820481888073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google.co.uk/url?sa=i&amp;rct=j&amp;q=&amp;esrc=s&amp;frm=1&amp;source=images&amp;cd=&amp;cad=rja&amp;docid=vTEClaEgGCkHrM&amp;tbnid=yoa6HXVcP3o7vM:&amp;ved=0CAUQjRw&amp;url=http://wackypedia.wikia.com/wiki/Teletubbies&amp;ei=qht6UoenBoGc0AWep4GgAQ&amp;bvm=bv.55980276,d.d2k&amp;psig=AFQjCNHlga6rQchzfVINjexziUDCe0Hsow&amp;ust=1383820579437319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google.co.uk/url?sa=i&amp;rct=j&amp;q=&amp;esrc=s&amp;frm=1&amp;source=images&amp;cd=&amp;cad=rja&amp;docid=t_JI5ydfeFqhEM&amp;tbnid=7jwvPaW0FANxtM:&amp;ved=0CAUQjRw&amp;url=http://laurenchild.wikia.com/wiki/File:Charlie_and_lola.jpg&amp;ei=Bhx6UoexK8fA0QXPwYHgDA&amp;bvm=bv.55980276,d.d2k&amp;psig=AFQjCNG31pAcBTr5_wKBK1rlm0zIQgFk8w&amp;ust=1383820638082892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s://www.google.co.uk/imgres?imgurl&amp;imgrefurl=http://www.throup.org.uk/doctor_who.php&amp;h=0&amp;w=0&amp;sz=1&amp;tbnid=C78EruOXD7XiMM&amp;tbnh=149&amp;tbnw=338&amp;zoom=1&amp;docid=JK8_gNuxIMHhXM&amp;ei=JRx6UpP5HaSv0QWGz4CgDg&amp;ved=0CAEQsCU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google.co.uk/url?sa=i&amp;rct=j&amp;q=&amp;esrc=s&amp;frm=1&amp;source=images&amp;cd=&amp;cad=rja&amp;docid=2-Ob3BsxmKXCqM&amp;tbnid=2NMQcypIe1iYsM:&amp;ved=0CAUQjRw&amp;url=http://www.popstarsplus.com/television_planetearth.htm&amp;ei=Qx16UueSDeKc0AWgh4DADg&amp;bvm=bv.55980276,d.d2k&amp;psig=AFQjCNGPhV2Q2zmrHzreNREqCaVqX6xe5g&amp;ust=1383820953437949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s://www.google.co.uk/imgres?imgurl&amp;imgrefurl=http://balletnews.co.uk/strictly-come-dancing-2011/&amp;h=0&amp;w=0&amp;sz=1&amp;tbnid=Kg8aQtLbU8OwVM&amp;tbnh=189&amp;tbnw=267&amp;zoom=1&amp;docid=EIkbNmKCwI-osM&amp;ei=GR56UuOeMK3y0gXW_IDoDQ&amp;ved=0CAEQsCU" TargetMode="External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png"/><Relationship Id="rId20" Type="http://schemas.openxmlformats.org/officeDocument/2006/relationships/hyperlink" Target="http://www.google.co.uk/url?sa=i&amp;rct=j&amp;q=&amp;esrc=s&amp;frm=1&amp;source=images&amp;cd=&amp;cad=rja&amp;docid=KOWjAPAoL9FVHM&amp;tbnid=KakxaA9GcDVmsM:&amp;ved=0CAUQjRw&amp;url=http://www.kids-bookreview.com/2012/08/review-maisy-makes-gingerbread.html&amp;ei=YSZ6UuX3M6S80QWkzIDAAg&amp;bvm=bv.55980276,d.d2k&amp;psig=AFQjCNERnmt3S4nZ7kDiVNjg-zKO206CFg&amp;ust=1383823324783915" TargetMode="External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13"/>
          <p:cNvSpPr/>
          <p:nvPr/>
        </p:nvSpPr>
        <p:spPr>
          <a:xfrm>
            <a:off x="52560" y="-3841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204840" y="-231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17" descr="http://i7.photobucket.com/albums/y300/kerayzee/2Barney-Group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4840" y="633240"/>
            <a:ext cx="2662200" cy="2154240"/>
          </a:xfrm>
          <a:prstGeom prst="rect">
            <a:avLst/>
          </a:prstGeom>
          <a:ln w="0">
            <a:noFill/>
          </a:ln>
        </p:spPr>
      </p:pic>
      <p:cxnSp>
        <p:nvCxnSpPr>
          <p:cNvPr id="512" name="Straight Arrow Connector 6"/>
          <p:cNvCxnSpPr/>
          <p:nvPr/>
        </p:nvCxnSpPr>
        <p:spPr>
          <a:xfrm>
            <a:off x="1402920" y="2781360"/>
            <a:ext cx="1080" cy="714960"/>
          </a:xfrm>
          <a:prstGeom prst="straightConnector1">
            <a:avLst/>
          </a:prstGeom>
          <a:ln w="38160">
            <a:solidFill>
              <a:srgbClr val="403152"/>
            </a:solidFill>
            <a:miter/>
            <a:tailEnd len="med" type="arrow" w="med"/>
          </a:ln>
        </p:spPr>
      </p:cxnSp>
      <p:pic>
        <p:nvPicPr>
          <p:cNvPr id="513" name="Picture 19" descr="http://images2.wikia.nocookie.net/__cb20080605162150/illogicopedia/images/8/80/2007-3-27-teletubbies.jpg">
            <a:hlinkClick r:id="rId3"/>
          </p:cNvPr>
          <p:cNvPicPr/>
          <p:nvPr/>
        </p:nvPicPr>
        <p:blipFill>
          <a:blip r:embed="rId4"/>
          <a:srcRect l="4097" t="2993" r="4999" b="1884"/>
          <a:stretch/>
        </p:blipFill>
        <p:spPr>
          <a:xfrm>
            <a:off x="317520" y="3583080"/>
            <a:ext cx="1395360" cy="168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4" name="Picture 23" descr="http://images.wikia.com/laurenchild/images/5/55/Charlie_and_lo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39880" y="3706920"/>
            <a:ext cx="1362240" cy="1596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7" descr="https://encrypted-tbn3.gstatic.com/images?q=tbn:ANd9GcRW4q-D0jiekgU1WipCgQ-15xWwV-uRgtcKaT8IkxecEqXBcKukWe8UVJc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0360" y="5303880"/>
            <a:ext cx="2122560" cy="934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1" descr="http://www.popstarsplus.com/images/PlanetEarthDVDCov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95800" y="4359240"/>
            <a:ext cx="1120680" cy="1503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3" descr="https://encrypted-tbn2.gstatic.com/images?q=tbn:ANd9GcRrwXv08vAe4osK9v1ufZhnZOXH5eISr-nViklLQyhuqWLh7HZMh4Df9HF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82760" y="3040200"/>
            <a:ext cx="1533600" cy="1085760"/>
          </a:xfrm>
          <a:prstGeom prst="rect">
            <a:avLst/>
          </a:prstGeom>
          <a:ln w="0">
            <a:noFill/>
          </a:ln>
        </p:spPr>
      </p:pic>
      <p:cxnSp>
        <p:nvCxnSpPr>
          <p:cNvPr id="518" name="Straight Arrow Connector 9"/>
          <p:cNvCxnSpPr/>
          <p:nvPr/>
        </p:nvCxnSpPr>
        <p:spPr>
          <a:xfrm>
            <a:off x="4716360" y="4781160"/>
            <a:ext cx="720000" cy="1080"/>
          </a:xfrm>
          <a:prstGeom prst="straightConnector1">
            <a:avLst/>
          </a:prstGeom>
          <a:ln w="38160">
            <a:solidFill>
              <a:srgbClr val="403152"/>
            </a:solidFill>
            <a:miter/>
            <a:tailEnd len="med" type="arrow" w="med"/>
          </a:ln>
        </p:spPr>
      </p:cxnSp>
      <p:pic>
        <p:nvPicPr>
          <p:cNvPr id="519" name="Picture 11" descr="G:\LICENSING\Book cover images &amp; text\ravenous beast.png"/>
          <p:cNvPicPr/>
          <p:nvPr/>
        </p:nvPicPr>
        <p:blipFill>
          <a:blip r:embed="rId13"/>
          <a:stretch/>
        </p:blipFill>
        <p:spPr>
          <a:xfrm>
            <a:off x="5867280" y="4125960"/>
            <a:ext cx="811440" cy="94752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0" name="Picture 8" descr="G:\LICENSING\Book cover images &amp; text\a bit lost.png"/>
          <p:cNvPicPr/>
          <p:nvPr/>
        </p:nvPicPr>
        <p:blipFill>
          <a:blip r:embed="rId14"/>
          <a:stretch/>
        </p:blipFill>
        <p:spPr>
          <a:xfrm>
            <a:off x="6972480" y="2882880"/>
            <a:ext cx="944280" cy="982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1" name="Picture 10" descr="G:\LICENSING\Book cover images &amp; text\Penguin.png"/>
          <p:cNvPicPr/>
          <p:nvPr/>
        </p:nvPicPr>
        <p:blipFill>
          <a:blip r:embed="rId15"/>
          <a:stretch/>
        </p:blipFill>
        <p:spPr>
          <a:xfrm>
            <a:off x="5919840" y="2882880"/>
            <a:ext cx="868320" cy="1055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2" name="Picture 34" descr="http://dam.walker.co.uk/getimage.aspx?id=14402&amp;class=books&amp;cat=default&amp;size=presentation&amp;type=presentation&amp;dpi=72&amp;bibliologin=1&amp;s=7ac405a7-e13e-4ab7-9d0a-aa999358c2bc"/>
          <p:cNvPicPr/>
          <p:nvPr/>
        </p:nvPicPr>
        <p:blipFill>
          <a:blip r:embed="rId16"/>
          <a:stretch/>
        </p:blipFill>
        <p:spPr>
          <a:xfrm>
            <a:off x="6788160" y="4116240"/>
            <a:ext cx="1200240" cy="966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3" name="Picture 25" descr="http://dam.walker.co.uk/getimage.aspx?id=21755&amp;class=books&amp;cat=default&amp;size=presentation&amp;type=presentation&amp;dpi=72&amp;bibliologin=1&amp;s=7ac405a7-e13e-4ab7-9d0a-aa999358c2bc"/>
          <p:cNvPicPr/>
          <p:nvPr/>
        </p:nvPicPr>
        <p:blipFill>
          <a:blip r:embed="rId17"/>
          <a:stretch/>
        </p:blipFill>
        <p:spPr>
          <a:xfrm>
            <a:off x="8077320" y="2890800"/>
            <a:ext cx="900000" cy="993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24" name="Picture 4" descr="9780744523232"/>
          <p:cNvPicPr/>
          <p:nvPr/>
        </p:nvPicPr>
        <p:blipFill>
          <a:blip r:embed="rId18"/>
          <a:stretch/>
        </p:blipFill>
        <p:spPr>
          <a:xfrm>
            <a:off x="7558200" y="1430280"/>
            <a:ext cx="1406520" cy="12794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25" name="Picture 1" descr=""/>
          <p:cNvPicPr/>
          <p:nvPr/>
        </p:nvPicPr>
        <p:blipFill>
          <a:blip r:embed="rId19"/>
          <a:stretch/>
        </p:blipFill>
        <p:spPr>
          <a:xfrm>
            <a:off x="6227640" y="1484280"/>
            <a:ext cx="112104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6" name="Picture 39" descr="http://1.bp.blogspot.com/-l860N_GQiEc/T_5gA-8Af0I/AAAAAAAAlf8/anB-FBaonq4/s1600/maisy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077320" y="4118040"/>
            <a:ext cx="1017360" cy="99036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27" name="Picture 41" descr="http://ecx.images-amazon.com/images/I/51uYR17dYtL._SY300_.jpg"/>
          <p:cNvPicPr/>
          <p:nvPr/>
        </p:nvPicPr>
        <p:blipFill>
          <a:blip r:embed="rId22"/>
          <a:stretch/>
        </p:blipFill>
        <p:spPr>
          <a:xfrm>
            <a:off x="6419880" y="5178600"/>
            <a:ext cx="968400" cy="9680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sp>
        <p:nvSpPr>
          <p:cNvPr id="528" name="TextBox 11"/>
          <p:cNvSpPr/>
          <p:nvPr/>
        </p:nvSpPr>
        <p:spPr>
          <a:xfrm>
            <a:off x="7524720" y="5303880"/>
            <a:ext cx="153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403152"/>
                </a:solidFill>
                <a:latin typeface="Calibri"/>
              </a:rPr>
              <a:t>For the best children’s books look for the Bear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itle 1"/>
          <p:cNvSpPr/>
          <p:nvPr/>
        </p:nvSpPr>
        <p:spPr>
          <a:xfrm>
            <a:off x="-36360" y="1197000"/>
            <a:ext cx="889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Anna Hewitt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Head of Licensing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Walker Books Ltd</a:t>
            </a:r>
            <a:br>
              <a:rPr sz="2800"/>
            </a:br>
            <a:r>
              <a:rPr b="1" lang="en-GB" sz="28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5545080" y="126684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rcRect l="14477" t="17241" r="22088" b="12670"/>
          <a:stretch/>
        </p:blipFill>
        <p:spPr>
          <a:xfrm rot="20501400">
            <a:off x="998280" y="701280"/>
            <a:ext cx="1919160" cy="3043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3"/>
          <a:srcRect l="14510" t="16195" r="20037" b="12117"/>
          <a:stretch/>
        </p:blipFill>
        <p:spPr>
          <a:xfrm rot="20758200">
            <a:off x="301680" y="3163680"/>
            <a:ext cx="1984320" cy="3068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4"/>
          <a:srcRect l="0" t="0" r="0" b="24255"/>
          <a:stretch/>
        </p:blipFill>
        <p:spPr>
          <a:xfrm>
            <a:off x="3059280" y="1668600"/>
            <a:ext cx="23288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Revenue Model </a:t>
            </a:r>
            <a:br>
              <a:rPr sz="4400"/>
            </a:br>
            <a:r>
              <a:rPr b="1" lang="en-GB" sz="3200" spc="-1" strike="noStrike">
                <a:solidFill>
                  <a:srgbClr val="403152"/>
                </a:solidFill>
                <a:latin typeface="Berlin Sans FB Demi"/>
                <a:ea typeface="Cambria Math"/>
              </a:rPr>
              <a:t>(approximate figures used in exam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39280" y="2205000"/>
            <a:ext cx="8604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tail:   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1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olesale price: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4.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oyalty 10-12%: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46p – 56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£10,000 royalty payment = over 20,000 units being s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http://www.thepresentshop.co.uk/images/shop/product_images/10608/aurora-soft-toys-gruffalo-large-16inch-size-12455.jpg"/>
          <p:cNvPicPr/>
          <p:nvPr/>
        </p:nvPicPr>
        <p:blipFill>
          <a:blip r:embed="rId1"/>
          <a:stretch/>
        </p:blipFill>
        <p:spPr>
          <a:xfrm>
            <a:off x="6178680" y="2349360"/>
            <a:ext cx="22730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08:22:10Z</dcterms:created>
  <dc:creator>Anna Hewitt</dc:creator>
  <dc:description/>
  <dc:language>en-US</dc:language>
  <cp:lastModifiedBy>Tom Donegan</cp:lastModifiedBy>
  <cp:lastPrinted>2013-07-01T13:18:59Z</cp:lastPrinted>
  <dcterms:modified xsi:type="dcterms:W3CDTF">2013-11-08T10:26:21Z</dcterms:modified>
  <cp:revision>87</cp:revision>
  <dc:subject/>
  <dc:title>PowerPoint Presentation</dc:title>
</cp:coreProperties>
</file>