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17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A4CD-1D5C-4335-BC58-0161C8721349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3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0361-51DD-4105-8F2F-482F516A78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me of the biggest and most iconic movies and TV shows originate from Books, from Thomas the Tank Engine and Winnie the Pooh to Mary Poppins and The Little Merma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5062-F106-4132-B3CC-0F01B72F133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1B1F2-EE01-4F15-BA25-DE6BFADE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35E56-74F1-4942-8E41-B8E9C37D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39528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983D6-B9F1-4A65-A55E-BE0B8F08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F985D-B75A-4291-9810-4A68D204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F7D75-304D-4C75-AEFB-8B17CE32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0D4DA-34F2-44CB-A68B-0497F29A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A6236-A406-48CE-B887-245FE5E3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3161B-11BB-40C8-9564-EE468F53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89AA7-9F78-4D67-B5D4-34214AA7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A7D1B-9C69-4550-B755-8EBFC023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DF977-D868-48D7-B06A-DD0F58AF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1F703-B399-44E0-9CE2-E144BBEE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F750F-3256-4FD1-B140-A47DE4E4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60D65-AEA3-4698-9AA0-4E58D3DD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39528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579D9-7516-42EF-8388-B9DD52A4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72B91-CC51-48D9-8AB3-88C42DC4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B1568-3F08-4E66-A8F7-02691FF6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4D8C0-8C63-4475-854D-B8ED14FE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90EF1-CCA3-43E6-9423-D37E3103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0939C-A5B4-4BA1-A9B2-BC78F7DBD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F7C3B-EF3F-4E71-974A-4B8EF1851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91EE6-E203-42A5-89FE-BC1C7BDA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30FA9-E581-4FB1-8EA7-E6CCE9A9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FA51BA-53EF-4333-A5F7-5D1DE068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A8472-214E-453E-B73B-FA0EA74B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B3C361-A7FD-493E-8C98-DA3AF726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39528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FC184-5CC9-406C-B913-D3DB82C2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6E922-53FF-43A1-94C0-4BA0972E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CEF3A-E16E-4AB5-A7E6-EA5E7838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20D64-52A3-4C40-87D7-08FB6A86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962E-09D1-4A67-9733-6DF1E337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29E31F-DDBA-45A6-B532-2FFAF58B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FAA66-8A9C-4FC3-8914-7701906D2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3A192-161F-4C3E-8C7A-1136C7F82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A12CE-3528-49CD-BE8D-E4686E50B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AD4B7-FFD9-480C-93D6-31FEAAAC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D66B4-91A1-46A9-BDC6-6690DE5C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FF0AF-EE8E-44E9-8ECA-C30EA6A8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BE477-8ADF-428E-9676-91DA7AB1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39528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19987-EAA1-4F3E-9031-6052D177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D7948-4426-4C29-A7BF-FD126E2B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2ABC-ADF0-41FC-B8EB-5324A2EB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D24E6-86D1-415D-A3DD-00F6C0F9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3657C-49EB-41B9-A141-D0CEB481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D014A-0FEC-4F52-9368-18BBDD37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E11C7-4CF9-49EE-BA8E-DD695DFA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B5318-CE6D-4E54-A8ED-3FD0972D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CFB1-1848-41B5-92EE-ACB1111D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60EE-02DE-444D-BE9A-D678227C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A990-BA0E-4C7F-B1DE-D71A8A7C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6512-ED03-4E19-8BE3-8C3CC572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6C86-9B62-4281-BE0E-9BF53DEF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3949-E408-4056-B172-527D2783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4492-967B-429F-8D50-26D07DBB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7C64-175F-44AD-B4A4-BD1B0878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0CBA-1FB4-4B9A-9CAB-D310B80A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D78E-D01F-454E-AA16-0195F9680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F148-762D-475D-9BC4-1FB672B0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323F-D2AD-4AB5-8AB4-CCB6CBED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3395-666D-4865-8E5C-ABE51D13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0D33-8C53-4405-91C7-31124F28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0E3D-F7BD-4963-9A6F-5899AFB4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9528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E2DA-7305-4D2E-8E80-FE119603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9356-593B-4588-B3F9-3E84F5E6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8C71-8A3E-453C-817D-C93A32F1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60D4-401B-4C42-9231-924514B8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4651-79E9-49E1-9832-C6B7031E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CA1B-D838-478D-93F7-019DB0C09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4143-0BB1-421E-A966-6C7D6D48B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FACE5-B91C-4269-B478-086BF6871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4345A-09FA-4CA5-8DDC-F05A589F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20588-D836-4FC1-A2D3-0CE2701A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59832-9D74-4A03-B1DB-C47A078A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281FB-D62C-4ADE-B582-885C09C4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9528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EA09F-0750-41F9-96A3-85CAE639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6B8D1-785C-49DF-8C5E-49E9900E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D77BF-62D6-4C0F-81EC-D2F6FD53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18457-9530-4090-9ECB-861F5B02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526C8-9484-4560-8B65-36D10987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8BDBE-40E5-4802-8F9F-522DC980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20257-1EF9-4098-B5B9-7B7677FB5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AA9B9-6066-455C-B5CB-F9D13FFE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D1419-FDE5-4CBB-B575-585A912C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316C6-01AC-476F-B515-2DB8EDB4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1DD65-FB69-43AE-AFA6-331E9A0E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F0C3F-32D8-4CA9-B780-7D1E5879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39528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B27AC-84C3-44B3-BBEA-28955A83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4AE17-1CD1-4171-A22A-A57F2BA8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BF408-2E16-4231-B4F3-9C6B5399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1081C-026D-4294-BFF9-58236F77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1C777-24D2-4931-BE57-8C88C71F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31D1E-86EF-4C2E-9A5B-A82F47CA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9528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3C300-7DE9-44CC-871A-BE2EEF5A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72AF2-2057-496C-83D0-3D5B90855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EC21C-C207-4A5F-9842-4818D80B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871F4-D2D5-471D-8D33-8B3DA14A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5268D-58B2-411A-B012-D6FE0639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14107-15FC-44F0-B53D-0C19B9CA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39528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D77D3-8744-4904-B0BB-F22A2C3B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9B99E-32E7-4C96-8EA7-2BE7217F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3AE98-4BAB-45D9-A1C9-7605E64C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23ECF-94EC-4279-A47C-5A65C034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BA18B-9F35-4F2D-9951-7F34E7A2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8CE49-13C5-433B-91CF-F086AC375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88619-B0F9-4B8C-8FD5-EC18BCA7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7A04C-04B6-42DB-A362-F457D126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FCC3E-50CD-4DA9-B651-90FB2E3C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5BD9C-E239-4DD9-892A-E6E582DC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81420-7DA8-4984-A828-66D34614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0C9A0-E327-4E62-A492-EC3F4843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39528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66BD6-3349-426C-A370-9B92443A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CA8BE-6A23-45AD-8D27-FAE8AD2E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F7312-6682-4DE5-9C87-B6658257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E45AF-C195-488F-9696-D3542F4E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4BD25-31AD-4171-AA08-F701CCE2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E5D9F-98BA-407A-965F-8334A2F1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1A89E-FC45-4ADA-911B-51B80CF1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8B29F-8033-4F2F-90BF-D64017F5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6C1D8-E6F0-40BD-A98F-E02E407A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458E7-6A43-4772-B61E-3C3BE6B8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336FA-1360-4AFC-9F1D-17FCAF19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F5CAE-2EB0-43D6-89D2-528E07D1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39528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DBC61-C384-4B70-B771-8DBF1ACF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0BB9C-958B-4DA6-A7FF-4B2158D6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2AEFD-70A7-4CB3-BE48-4E628487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06597-8018-4651-9598-0A9EA8E0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2E985-6D49-455D-8D93-73F82EE9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091B1-3550-4137-95BE-CAE39F71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CAA9D-08FD-4B88-9D36-A25C58E61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7CDBF-478F-470A-848F-91CDD8A54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0ADC4-DAB4-4B96-9830-937A9CA9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F2554-D032-4A6E-8526-A749E044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2631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263160" cy="68580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1374-9821-4F27-AC2C-8B131C71739E}" type="datetime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8DE7-E4F5-4F04-807C-3E53FA015A4A}" type="slidenum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26316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7634-1680-426E-BCF5-E103F4AA0F2D}" type="datetime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9CAC-5B6D-47AE-A073-022588BB0F1A}" type="slidenum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263160" cy="68580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F567-5668-46E1-8C54-E0C708B7B3E6}" type="datetime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3FD0-86B7-40B0-8FAB-A5237B1ED141}" type="slidenum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26316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26316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DD41-7628-4CC7-853E-961BC47A88E0}" type="datetime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CA49-C7E5-4C8D-B16B-53D26A29B820}" type="slidenum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26316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5A6E-F44B-4B49-8F59-0B9A9255861F}" type="datetime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8FAD-8AA8-4BA6-BBBF-366FE0A06017}" type="slidenum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26316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C3ED-B992-4C80-91F0-77A332178912}" type="datetime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511A-737B-4832-A50F-FD1A58F2E502}" type="slidenum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26316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A9FA-8330-4C32-9936-E48752EDC035}" type="datetime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E179-0037-4583-BB57-0B491DD672D8}" type="slidenum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26316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AA26-3F2C-43BE-9D2E-56966E781D59}" type="datetime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AD81-CC11-477E-B1AD-FDF417BACC5A}" type="slidenum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26316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66B6-9D4E-421E-917B-76E6C385D6C3}" type="datetime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A455-F056-4218-B0DC-1D13AAFF66FE}" type="slidenum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26316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9235-F645-481B-84E4-69EF4A77A002}" type="datetime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DD6E-89B5-45B6-9B5A-33051139BE4F}" type="slidenum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26316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D422-5E1B-4084-ABAD-203A8EBE5D3E}" type="datetime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0/07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D445-75D2-4FBA-AEFF-CA34F5878413}" type="slidenum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.uk/url?sa=i&amp;rct=j&amp;q=&amp;esrc=s&amp;frm=1&amp;source=images&amp;cd=&amp;cad=rja&amp;docid=J2wpGTgNcEVHPM&amp;tbnid=Y4WkvfVEo0OQPM:&amp;ved=0CAUQjRw&amp;url=http://childrenofthenineties.blogspot.com/2010/01/barney-dinosaur.html&amp;ei=gBt6UrmJIsrU0QWll4HQAg&amp;bvm=bv.55980276,d.d2k&amp;psig=AFQjCNEkrl25hAmZMupAGikhrE9MdtirDw&amp;ust=1383820481888073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google.co.uk/url?sa=i&amp;rct=j&amp;q=&amp;esrc=s&amp;frm=1&amp;source=images&amp;cd=&amp;cad=rja&amp;docid=vTEClaEgGCkHrM&amp;tbnid=yoa6HXVcP3o7vM:&amp;ved=0CAUQjRw&amp;url=http://wackypedia.wikia.com/wiki/Teletubbies&amp;ei=qht6UoenBoGc0AWep4GgAQ&amp;bvm=bv.55980276,d.d2k&amp;psig=AFQjCNHlga6rQchzfVINjexziUDCe0Hsow&amp;ust=1383820579437319" TargetMode="External"/><Relationship Id="rId4" Type="http://schemas.openxmlformats.org/officeDocument/2006/relationships/image" Target="../media/image4.png"/><Relationship Id="rId5" Type="http://schemas.openxmlformats.org/officeDocument/2006/relationships/hyperlink" Target="http://www.google.co.uk/url?sa=i&amp;rct=j&amp;q=&amp;esrc=s&amp;frm=1&amp;source=images&amp;cd=&amp;cad=rja&amp;docid=t_JI5ydfeFqhEM&amp;tbnid=7jwvPaW0FANxtM:&amp;ved=0CAUQjRw&amp;url=http://laurenchild.wikia.com/wiki/File:Charlie_and_lola.jpg&amp;ei=Bhx6UoexK8fA0QXPwYHgDA&amp;bvm=bv.55980276,d.d2k&amp;psig=AFQjCNG31pAcBTr5_wKBK1rlm0zIQgFk8w&amp;ust=1383820638082892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s://www.google.co.uk/imgres?imgurl&amp;imgrefurl=http://www.throup.org.uk/doctor_who.php&amp;h=0&amp;w=0&amp;sz=1&amp;tbnid=C78EruOXD7XiMM&amp;tbnh=149&amp;tbnw=338&amp;zoom=1&amp;docid=JK8_gNuxIMHhXM&amp;ei=JRx6UpP5HaSv0QWGz4CgDg&amp;ved=0CAEQsCU" TargetMode="External"/><Relationship Id="rId8" Type="http://schemas.openxmlformats.org/officeDocument/2006/relationships/image" Target="../media/image6.png"/><Relationship Id="rId9" Type="http://schemas.openxmlformats.org/officeDocument/2006/relationships/hyperlink" Target="http://www.google.co.uk/url?sa=i&amp;rct=j&amp;q=&amp;esrc=s&amp;frm=1&amp;source=images&amp;cd=&amp;cad=rja&amp;docid=2-Ob3BsxmKXCqM&amp;tbnid=2NMQcypIe1iYsM:&amp;ved=0CAUQjRw&amp;url=http://www.popstarsplus.com/television_planetearth.htm&amp;ei=Qx16UueSDeKc0AWgh4DADg&amp;bvm=bv.55980276,d.d2k&amp;psig=AFQjCNGPhV2Q2zmrHzreNREqCaVqX6xe5g&amp;ust=1383820953437949" TargetMode="External"/><Relationship Id="rId10" Type="http://schemas.openxmlformats.org/officeDocument/2006/relationships/image" Target="../media/image7.jpeg"/><Relationship Id="rId11" Type="http://schemas.openxmlformats.org/officeDocument/2006/relationships/hyperlink" Target="https://www.google.co.uk/imgres?imgurl&amp;imgrefurl=http://balletnews.co.uk/strictly-come-dancing-2011/&amp;h=0&amp;w=0&amp;sz=1&amp;tbnid=Kg8aQtLbU8OwVM&amp;tbnh=189&amp;tbnw=267&amp;zoom=1&amp;docid=EIkbNmKCwI-osM&amp;ei=GR56UuOeMK3y0gXW_IDoDQ&amp;ved=0CAEQsCU" TargetMode="External"/><Relationship Id="rId12" Type="http://schemas.openxmlformats.org/officeDocument/2006/relationships/image" Target="../media/image8.jpe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2.jpeg"/><Relationship Id="rId17" Type="http://schemas.openxmlformats.org/officeDocument/2006/relationships/image" Target="../media/image13.jpeg"/><Relationship Id="rId18" Type="http://schemas.openxmlformats.org/officeDocument/2006/relationships/image" Target="../media/image14.jpeg"/><Relationship Id="rId19" Type="http://schemas.openxmlformats.org/officeDocument/2006/relationships/image" Target="../media/image15.png"/><Relationship Id="rId20" Type="http://schemas.openxmlformats.org/officeDocument/2006/relationships/hyperlink" Target="http://www.google.co.uk/url?sa=i&amp;rct=j&amp;q=&amp;esrc=s&amp;frm=1&amp;source=images&amp;cd=&amp;cad=rja&amp;docid=KOWjAPAoL9FVHM&amp;tbnid=KakxaA9GcDVmsM:&amp;ved=0CAUQjRw&amp;url=http://www.kids-bookreview.com/2012/08/review-maisy-makes-gingerbread.html&amp;ei=YSZ6UuX3M6S80QWkzIDAAg&amp;bvm=bv.55980276,d.d2k&amp;psig=AFQjCNERnmt3S4nZ7kDiVNjg-zKO206CFg&amp;ust=1383823324783915" TargetMode="External"/><Relationship Id="rId21" Type="http://schemas.openxmlformats.org/officeDocument/2006/relationships/image" Target="../media/image16.jpeg"/><Relationship Id="rId22" Type="http://schemas.openxmlformats.org/officeDocument/2006/relationships/image" Target="../media/image17.jpeg"/><Relationship Id="rId23" Type="http://schemas.openxmlformats.org/officeDocument/2006/relationships/slideLayout" Target="../slideLayouts/slideLayout25.xml"/><Relationship Id="rId2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AutoShape 13"/>
          <p:cNvSpPr/>
          <p:nvPr/>
        </p:nvSpPr>
        <p:spPr>
          <a:xfrm>
            <a:off x="52560" y="-3841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AutoShape 15"/>
          <p:cNvSpPr/>
          <p:nvPr/>
        </p:nvSpPr>
        <p:spPr>
          <a:xfrm>
            <a:off x="204840" y="-231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1" name="Picture 17" descr="http://i7.photobucket.com/albums/y300/kerayzee/2Barney-Group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4840" y="633240"/>
            <a:ext cx="2662200" cy="2154240"/>
          </a:xfrm>
          <a:prstGeom prst="rect">
            <a:avLst/>
          </a:prstGeom>
          <a:ln w="0">
            <a:noFill/>
          </a:ln>
        </p:spPr>
      </p:pic>
      <p:cxnSp>
        <p:nvCxnSpPr>
          <p:cNvPr id="512" name="Straight Arrow Connector 6"/>
          <p:cNvCxnSpPr/>
          <p:nvPr/>
        </p:nvCxnSpPr>
        <p:spPr>
          <a:xfrm>
            <a:off x="1402920" y="2781360"/>
            <a:ext cx="1080" cy="714960"/>
          </a:xfrm>
          <a:prstGeom prst="straightConnector1">
            <a:avLst/>
          </a:prstGeom>
          <a:ln w="38160">
            <a:solidFill>
              <a:srgbClr val="403152"/>
            </a:solidFill>
            <a:miter/>
            <a:tailEnd len="med" type="arrow" w="med"/>
          </a:ln>
        </p:spPr>
      </p:cxnSp>
      <p:pic>
        <p:nvPicPr>
          <p:cNvPr id="513" name="Picture 19" descr="http://images2.wikia.nocookie.net/__cb20080605162150/illogicopedia/images/8/80/2007-3-27-teletubbies.jpg">
            <a:hlinkClick r:id="rId3"/>
          </p:cNvPr>
          <p:cNvPicPr/>
          <p:nvPr/>
        </p:nvPicPr>
        <p:blipFill>
          <a:blip r:embed="rId4"/>
          <a:srcRect l="4097" t="2993" r="4999" b="1884"/>
          <a:stretch/>
        </p:blipFill>
        <p:spPr>
          <a:xfrm>
            <a:off x="317520" y="3583080"/>
            <a:ext cx="1395360" cy="1689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14" name="Picture 23" descr="http://images.wikia.com/laurenchild/images/5/55/Charlie_and_lola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39880" y="3706920"/>
            <a:ext cx="1362240" cy="15969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27" descr="https://encrypted-tbn3.gstatic.com/images?q=tbn:ANd9GcRW4q-D0jiekgU1WipCgQ-15xWwV-uRgtcKaT8IkxecEqXBcKukWe8UVJc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60360" y="5303880"/>
            <a:ext cx="2122560" cy="9349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31" descr="http://www.popstarsplus.com/images/PlanetEarthDVDCover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295800" y="4359240"/>
            <a:ext cx="1120680" cy="150336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33" descr="https://encrypted-tbn2.gstatic.com/images?q=tbn:ANd9GcRrwXv08vAe4osK9v1ufZhnZOXH5eISr-nViklLQyhuqWLh7HZMh4Df9HFN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182760" y="3040200"/>
            <a:ext cx="1533600" cy="1085760"/>
          </a:xfrm>
          <a:prstGeom prst="rect">
            <a:avLst/>
          </a:prstGeom>
          <a:ln w="0">
            <a:noFill/>
          </a:ln>
        </p:spPr>
      </p:pic>
      <p:cxnSp>
        <p:nvCxnSpPr>
          <p:cNvPr id="518" name="Straight Arrow Connector 9"/>
          <p:cNvCxnSpPr/>
          <p:nvPr/>
        </p:nvCxnSpPr>
        <p:spPr>
          <a:xfrm>
            <a:off x="4716360" y="4781160"/>
            <a:ext cx="720000" cy="1080"/>
          </a:xfrm>
          <a:prstGeom prst="straightConnector1">
            <a:avLst/>
          </a:prstGeom>
          <a:ln w="38160">
            <a:solidFill>
              <a:srgbClr val="403152"/>
            </a:solidFill>
            <a:miter/>
            <a:tailEnd len="med" type="arrow" w="med"/>
          </a:ln>
        </p:spPr>
      </p:cxnSp>
      <p:pic>
        <p:nvPicPr>
          <p:cNvPr id="519" name="Picture 11" descr="G:\LICENSING\Book cover images &amp; text\ravenous beast.png"/>
          <p:cNvPicPr/>
          <p:nvPr/>
        </p:nvPicPr>
        <p:blipFill>
          <a:blip r:embed="rId13"/>
          <a:stretch/>
        </p:blipFill>
        <p:spPr>
          <a:xfrm>
            <a:off x="5867280" y="4125960"/>
            <a:ext cx="811440" cy="947520"/>
          </a:xfrm>
          <a:prstGeom prst="rect">
            <a:avLst/>
          </a:prstGeom>
          <a:ln cap="sq"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520" name="Picture 8" descr="G:\LICENSING\Book cover images &amp; text\a bit lost.png"/>
          <p:cNvPicPr/>
          <p:nvPr/>
        </p:nvPicPr>
        <p:blipFill>
          <a:blip r:embed="rId14"/>
          <a:stretch/>
        </p:blipFill>
        <p:spPr>
          <a:xfrm>
            <a:off x="6972480" y="2882880"/>
            <a:ext cx="944280" cy="982800"/>
          </a:xfrm>
          <a:prstGeom prst="rect">
            <a:avLst/>
          </a:prstGeom>
          <a:ln cap="sq"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521" name="Picture 10" descr="G:\LICENSING\Book cover images &amp; text\Penguin.png"/>
          <p:cNvPicPr/>
          <p:nvPr/>
        </p:nvPicPr>
        <p:blipFill>
          <a:blip r:embed="rId15"/>
          <a:stretch/>
        </p:blipFill>
        <p:spPr>
          <a:xfrm>
            <a:off x="5919840" y="2882880"/>
            <a:ext cx="868320" cy="1055880"/>
          </a:xfrm>
          <a:prstGeom prst="rect">
            <a:avLst/>
          </a:prstGeom>
          <a:ln cap="sq"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522" name="Picture 34" descr="http://dam.walker.co.uk/getimage.aspx?id=14402&amp;class=books&amp;cat=default&amp;size=presentation&amp;type=presentation&amp;dpi=72&amp;bibliologin=1&amp;s=7ac405a7-e13e-4ab7-9d0a-aa999358c2bc"/>
          <p:cNvPicPr/>
          <p:nvPr/>
        </p:nvPicPr>
        <p:blipFill>
          <a:blip r:embed="rId16"/>
          <a:stretch/>
        </p:blipFill>
        <p:spPr>
          <a:xfrm>
            <a:off x="6788160" y="4116240"/>
            <a:ext cx="1200240" cy="966960"/>
          </a:xfrm>
          <a:prstGeom prst="rect">
            <a:avLst/>
          </a:prstGeom>
          <a:ln cap="sq"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523" name="Picture 25" descr="http://dam.walker.co.uk/getimage.aspx?id=21755&amp;class=books&amp;cat=default&amp;size=presentation&amp;type=presentation&amp;dpi=72&amp;bibliologin=1&amp;s=7ac405a7-e13e-4ab7-9d0a-aa999358c2bc"/>
          <p:cNvPicPr/>
          <p:nvPr/>
        </p:nvPicPr>
        <p:blipFill>
          <a:blip r:embed="rId17"/>
          <a:stretch/>
        </p:blipFill>
        <p:spPr>
          <a:xfrm>
            <a:off x="8077320" y="2890800"/>
            <a:ext cx="900000" cy="993960"/>
          </a:xfrm>
          <a:prstGeom prst="rect">
            <a:avLst/>
          </a:prstGeom>
          <a:ln cap="sq"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524" name="Picture 4" descr="9780744523232"/>
          <p:cNvPicPr/>
          <p:nvPr/>
        </p:nvPicPr>
        <p:blipFill>
          <a:blip r:embed="rId18"/>
          <a:stretch/>
        </p:blipFill>
        <p:spPr>
          <a:xfrm>
            <a:off x="7558200" y="1430280"/>
            <a:ext cx="1406520" cy="1279440"/>
          </a:xfrm>
          <a:prstGeom prst="rect">
            <a:avLst/>
          </a:prstGeom>
          <a:ln w="9360">
            <a:solidFill>
              <a:srgbClr val="403152"/>
            </a:solidFill>
            <a:miter/>
          </a:ln>
        </p:spPr>
      </p:pic>
      <p:pic>
        <p:nvPicPr>
          <p:cNvPr id="525" name="Picture 1" descr=""/>
          <p:cNvPicPr/>
          <p:nvPr/>
        </p:nvPicPr>
        <p:blipFill>
          <a:blip r:embed="rId19"/>
          <a:stretch/>
        </p:blipFill>
        <p:spPr>
          <a:xfrm>
            <a:off x="6227640" y="1484280"/>
            <a:ext cx="1121040" cy="122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6" name="Picture 39" descr="http://1.bp.blogspot.com/-l860N_GQiEc/T_5gA-8Af0I/AAAAAAAAlf8/anB-FBaonq4/s1600/maisy.jpg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8077320" y="4118040"/>
            <a:ext cx="1017360" cy="990360"/>
          </a:xfrm>
          <a:prstGeom prst="rect">
            <a:avLst/>
          </a:prstGeom>
          <a:ln w="9360">
            <a:solidFill>
              <a:srgbClr val="403152"/>
            </a:solidFill>
            <a:miter/>
          </a:ln>
        </p:spPr>
      </p:pic>
      <p:pic>
        <p:nvPicPr>
          <p:cNvPr id="527" name="Picture 41" descr="http://ecx.images-amazon.com/images/I/51uYR17dYtL._SY300_.jpg"/>
          <p:cNvPicPr/>
          <p:nvPr/>
        </p:nvPicPr>
        <p:blipFill>
          <a:blip r:embed="rId22"/>
          <a:stretch/>
        </p:blipFill>
        <p:spPr>
          <a:xfrm>
            <a:off x="6419880" y="5178600"/>
            <a:ext cx="968400" cy="968040"/>
          </a:xfrm>
          <a:prstGeom prst="rect">
            <a:avLst/>
          </a:prstGeom>
          <a:ln w="9360">
            <a:solidFill>
              <a:srgbClr val="403152"/>
            </a:solidFill>
            <a:miter/>
          </a:ln>
        </p:spPr>
      </p:pic>
      <p:sp>
        <p:nvSpPr>
          <p:cNvPr id="528" name="TextBox 11"/>
          <p:cNvSpPr/>
          <p:nvPr/>
        </p:nvSpPr>
        <p:spPr>
          <a:xfrm>
            <a:off x="7524720" y="5303880"/>
            <a:ext cx="1536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403152"/>
                </a:solidFill>
                <a:latin typeface="Calibri"/>
              </a:rPr>
              <a:t>For the best children’s books look for the Bear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itle 1"/>
          <p:cNvSpPr/>
          <p:nvPr/>
        </p:nvSpPr>
        <p:spPr>
          <a:xfrm>
            <a:off x="-36360" y="1197000"/>
            <a:ext cx="8893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3152"/>
                </a:solidFill>
                <a:latin typeface="Berlin Sans FB Demi"/>
                <a:ea typeface="Cambria Math"/>
              </a:rPr>
              <a:t>Anna Hewitt</a:t>
            </a:r>
            <a:br>
              <a:rPr sz="2800"/>
            </a:br>
            <a:r>
              <a:rPr b="1" lang="en-GB" sz="2800" spc="-1" strike="noStrike">
                <a:solidFill>
                  <a:srgbClr val="403152"/>
                </a:solidFill>
                <a:latin typeface="Berlin Sans FB Demi"/>
                <a:ea typeface="Cambria Math"/>
              </a:rPr>
              <a:t>Head of Licensing</a:t>
            </a:r>
            <a:br>
              <a:rPr sz="2800"/>
            </a:br>
            <a:r>
              <a:rPr b="1" lang="en-GB" sz="2800" spc="-1" strike="noStrike">
                <a:solidFill>
                  <a:srgbClr val="403152"/>
                </a:solidFill>
                <a:latin typeface="Berlin Sans FB Demi"/>
                <a:ea typeface="Cambria Math"/>
              </a:rPr>
              <a:t>Walker Books Ltd</a:t>
            </a:r>
            <a:br>
              <a:rPr sz="2800"/>
            </a:br>
            <a:r>
              <a:rPr b="1" lang="en-GB" sz="2800" spc="-1" strike="noStrike">
                <a:solidFill>
                  <a:srgbClr val="403152"/>
                </a:solidFill>
                <a:latin typeface="Berlin Sans FB Demi"/>
                <a:ea typeface="Cambria Math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8" descr=""/>
          <p:cNvPicPr/>
          <p:nvPr/>
        </p:nvPicPr>
        <p:blipFill>
          <a:blip r:embed="rId1"/>
          <a:stretch/>
        </p:blipFill>
        <p:spPr>
          <a:xfrm>
            <a:off x="5545080" y="1266840"/>
            <a:ext cx="3486240" cy="46483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3" descr=""/>
          <p:cNvPicPr/>
          <p:nvPr/>
        </p:nvPicPr>
        <p:blipFill>
          <a:blip r:embed="rId2"/>
          <a:srcRect l="14477" t="17241" r="22088" b="12670"/>
          <a:stretch/>
        </p:blipFill>
        <p:spPr>
          <a:xfrm rot="20501400">
            <a:off x="998280" y="701280"/>
            <a:ext cx="1919160" cy="304344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" descr=""/>
          <p:cNvPicPr/>
          <p:nvPr/>
        </p:nvPicPr>
        <p:blipFill>
          <a:blip r:embed="rId3"/>
          <a:srcRect l="14510" t="16195" r="20037" b="12117"/>
          <a:stretch/>
        </p:blipFill>
        <p:spPr>
          <a:xfrm rot="20758200">
            <a:off x="301680" y="3163680"/>
            <a:ext cx="1984320" cy="30686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" descr=""/>
          <p:cNvPicPr/>
          <p:nvPr/>
        </p:nvPicPr>
        <p:blipFill>
          <a:blip r:embed="rId4"/>
          <a:srcRect l="0" t="0" r="0" b="24255"/>
          <a:stretch/>
        </p:blipFill>
        <p:spPr>
          <a:xfrm>
            <a:off x="3059280" y="1668600"/>
            <a:ext cx="232884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03152"/>
                </a:solidFill>
                <a:latin typeface="Berlin Sans FB Demi"/>
                <a:ea typeface="Cambria Math"/>
              </a:rPr>
              <a:t>Revenue Model </a:t>
            </a:r>
            <a:br>
              <a:rPr sz="4400"/>
            </a:br>
            <a:r>
              <a:rPr b="1" lang="en-GB" sz="3200" spc="-1" strike="noStrike">
                <a:solidFill>
                  <a:srgbClr val="403152"/>
                </a:solidFill>
                <a:latin typeface="Berlin Sans FB Demi"/>
                <a:ea typeface="Cambria Math"/>
              </a:rPr>
              <a:t>(approximate figures used in examp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539280" y="2205000"/>
            <a:ext cx="86043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Retail:   </a:t>
            </a:r>
            <a:r>
              <a:rPr b="0" lang="en-GB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£10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Wholesale price:</a:t>
            </a:r>
            <a:r>
              <a:rPr b="0" lang="en-GB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£4.6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Royalty 10-12%:</a:t>
            </a:r>
            <a:r>
              <a:rPr b="0" lang="en-GB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46p – 56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£10,000 royalty payment = over 20,000 units being s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Picture 2" descr="http://www.thepresentshop.co.uk/images/shop/product_images/10608/aurora-soft-toys-gruffalo-large-16inch-size-12455.jpg"/>
          <p:cNvPicPr/>
          <p:nvPr/>
        </p:nvPicPr>
        <p:blipFill>
          <a:blip r:embed="rId1"/>
          <a:stretch/>
        </p:blipFill>
        <p:spPr>
          <a:xfrm>
            <a:off x="6178680" y="2349360"/>
            <a:ext cx="227304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08:22:10Z</dcterms:created>
  <dc:creator>Anna Hewitt</dc:creator>
  <dc:description/>
  <dc:language>en-US</dc:language>
  <cp:lastModifiedBy>Tom Donegan</cp:lastModifiedBy>
  <cp:lastPrinted>2013-07-01T13:18:59Z</cp:lastPrinted>
  <dcterms:modified xsi:type="dcterms:W3CDTF">2013-11-08T10:26:21Z</dcterms:modified>
  <cp:revision>87</cp:revision>
  <dc:subject/>
  <dc:title>PowerPoint Presentation</dc:title>
</cp:coreProperties>
</file>