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400" spc="-1" strike="noStrike">
                <a:solidFill>
                  <a:srgbClr val="ffffff"/>
                </a:solidFill>
                <a:latin typeface="Gill Sans"/>
              </a:rPr>
              <a:t>Fig Taylor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AOI Portfolio Consultant &amp; Author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520560" y="1104840"/>
            <a:ext cx="11963520" cy="7531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419040" y="914400"/>
            <a:ext cx="12153960" cy="79246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647640" y="1079640"/>
            <a:ext cx="11709360" cy="7581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343080" y="939960"/>
            <a:ext cx="12306240" cy="7873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" descr=""/>
          <p:cNvPicPr/>
          <p:nvPr/>
        </p:nvPicPr>
        <p:blipFill>
          <a:blip r:embed="rId1"/>
          <a:srcRect l="410" t="471" r="205" b="471"/>
          <a:stretch/>
        </p:blipFill>
        <p:spPr>
          <a:xfrm>
            <a:off x="355680" y="888840"/>
            <a:ext cx="12318840" cy="79758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393840" y="977760"/>
            <a:ext cx="12204720" cy="77979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368280" y="1041480"/>
            <a:ext cx="12281040" cy="7848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28600" y="812880"/>
            <a:ext cx="12547440" cy="8128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