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F15B0-C170-4655-BE36-A60132DBE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DEC5D-B3DD-4A05-A88D-913BD1E86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7DB22-8BB2-40DD-8F23-F4937225A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11CD5-CED1-49B7-BA53-EBEEB2387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AA842-ED52-4B17-9378-146D4B01F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03C1-8A9A-49E1-8FCE-A9FFD1B35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BFD8F-138B-4D4A-AC70-10B6FE97C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5AAF-6226-4A3A-9F69-0F44A3DBF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331AE-7117-4820-B1A1-7B8462B04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F1D8-E27C-47BB-9E84-335A50E8C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2F7C-1770-4DE7-B5A4-95225FD0D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05738-E7D8-48B2-9983-2ED2CDD42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9F23-CFF4-4D05-96B4-21ED359F1D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artscouncil.ie/" TargetMode="External"/><Relationship Id="rId2" Type="http://schemas.openxmlformats.org/officeDocument/2006/relationships/hyperlink" Target="mailto:Sarah.bannan@artsouncil.ie" TargetMode="External"/><Relationship Id="rId3" Type="http://schemas.openxmlformats.org/officeDocument/2006/relationships/hyperlink" Target="mailto:Mathilde.veldt@artscouncil.ie" TargetMode="External"/><Relationship Id="rId4" Type="http://schemas.openxmlformats.org/officeDocument/2006/relationships/hyperlink" Target="mailto:Jennifer.lawless@artscouncil.ie"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300" spc="-1" strike="noStrike">
                <a:solidFill>
                  <a:srgbClr val="ffffff"/>
                </a:solidFill>
                <a:latin typeface="Arial"/>
              </a:rPr>
              <a:t>Arts Council Awards</a:t>
            </a:r>
            <a:endParaRPr b="0" lang="en-US" sz="4300" spc="-1" strike="noStrike">
              <a:solidFill>
                <a:srgbClr val="000000"/>
              </a:solidFill>
              <a:latin typeface="Arial"/>
            </a:endParaRPr>
          </a:p>
        </p:txBody>
      </p:sp>
      <p:pic>
        <p:nvPicPr>
          <p:cNvPr id="42" name="Picture 4" descr="ACLogoJpegBlack_17Sep2005_Fin_KLW"/>
          <p:cNvPicPr/>
          <p:nvPr/>
        </p:nvPicPr>
        <p:blipFill>
          <a:blip r:embed="rId1"/>
          <a:stretch/>
        </p:blipFill>
        <p:spPr>
          <a:xfrm>
            <a:off x="3708360" y="1125360"/>
            <a:ext cx="1768680" cy="176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pplication Proces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Online Services System</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pplication form &amp; budge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pporting material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heck lis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mmon mistakes</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The application form</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e bas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hort and detailed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ud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heck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ign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Detailed Description</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rtistic goals and ambi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xpanded and detailed description of your ide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additional and relevant financial detai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Budgets</a:t>
            </a:r>
            <a:endParaRPr b="0" lang="en-US" sz="40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e real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udgets include things lik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Living 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Your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aking time out from paid employ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Support Material</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rrent CV(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0 pages of a work in progr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viously published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Common Mistake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upporting materia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meeting the award criteri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ving it too 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ssessment Proces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ligibility check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esignated to te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ssessment and recommendation (by Adviser or Head of Te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eer panel assessment and recommendation – delegated authority to make dec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uncil (notes decisions)</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ssessment Criteria</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 of the idea presen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ck record (or potential) of the applica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asibility of the entire proposal, including financial feasibili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etitive context and available resour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priorities of the award for which you are apply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pecific art form/art practice priorities or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Timeframe</a:t>
            </a:r>
            <a:endParaRPr b="0" lang="en-US" sz="40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rom the closing date 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12 to 16 weeks for decisions for Bursa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4 to 6 weeks for decisions for Travel and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FAQs</a:t>
            </a:r>
            <a:endParaRPr b="0" lang="en-US" sz="40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pport about 2 in 10 applications per ro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wards are often made for less than the amount reques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ork in progress: a very important piece of applic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What is the Arts Council?</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atutory A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rts Act 200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epartment of Art, Heritage and Gaeltac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unc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a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Closing Dates</a:t>
            </a:r>
            <a:endParaRPr b="0" lang="en-US" sz="40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Bursaries: 16</a:t>
            </a:r>
            <a:r>
              <a:rPr b="0" lang="en-IE" sz="2800" spc="-1" strike="noStrike" baseline="30000">
                <a:solidFill>
                  <a:srgbClr val="000000"/>
                </a:solidFill>
                <a:latin typeface="Arial"/>
              </a:rPr>
              <a:t>th</a:t>
            </a:r>
            <a:r>
              <a:rPr b="0" lang="en-IE" sz="2800" spc="-1" strike="noStrike">
                <a:solidFill>
                  <a:srgbClr val="000000"/>
                </a:solidFill>
                <a:latin typeface="Arial"/>
              </a:rPr>
              <a:t> of January 2014, 5.30pm </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1600" spc="-1" strike="noStrike">
                <a:solidFill>
                  <a:srgbClr val="000000"/>
                </a:solidFill>
                <a:latin typeface="Arial"/>
              </a:rPr>
              <a:t>(second closing date in June/July 2014, including Irish language)</a:t>
            </a: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ravel and training: Ongoing </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 </a:t>
            </a:r>
            <a:r>
              <a:rPr b="0" lang="en-IE" sz="1600" spc="-1" strike="noStrike">
                <a:solidFill>
                  <a:srgbClr val="000000"/>
                </a:solidFill>
                <a:latin typeface="Arial"/>
              </a:rPr>
              <a:t>(at least six weeks before tra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Further Informatio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www.artscouncil.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ease sign up to the monthly Arts Council newslet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terature contact detai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rah Bannan, Head of Literature</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2"/>
              </a:rPr>
              <a:t>Sarah.bannan@artsouncil.ie</a:t>
            </a:r>
            <a:r>
              <a:rPr b="0" lang="en-GB" sz="1600" spc="-1" strike="noStrike">
                <a:solidFill>
                  <a:srgbClr val="000000"/>
                </a:solidFill>
                <a:latin typeface="Arial"/>
              </a:rPr>
              <a:t> / 01 618 0296</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hilde Veldt, Literature Officer</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3"/>
              </a:rPr>
              <a:t>Mathilde.veldt@artscouncil.ie</a:t>
            </a:r>
            <a:r>
              <a:rPr b="0" lang="en-GB" sz="1600" spc="-1" strike="noStrike">
                <a:solidFill>
                  <a:srgbClr val="000000"/>
                </a:solidFill>
                <a:latin typeface="Arial"/>
              </a:rPr>
              <a:t> / 01 619 7807</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ennifer Lawless, Literature Assistant</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4"/>
              </a:rPr>
              <a:t>Jennifer.lawless@artscouncil.ie</a:t>
            </a:r>
            <a:r>
              <a:rPr b="0" lang="en-GB" sz="1600" spc="-1" strike="noStrike">
                <a:solidFill>
                  <a:srgbClr val="000000"/>
                </a:solidFill>
                <a:latin typeface="Arial"/>
              </a:rPr>
              <a:t> / 01 618 02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What does the Arts Council do?</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Our role is to:</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imulate public interest in the ar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e knowledge, appreciation and practice of the ar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ist in improving standards in the ar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ise the Minister and other public bodies on the art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What does the Arts Council do?</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 practice this means -</a:t>
            </a:r>
            <a:endParaRPr b="0" lang="en-US" sz="28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financial assistance, mainly, but not exclusively, to artists and arts organisations; we also support others who develop and promote the arts;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fering advice and information on the arts to Government and to others;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shing research and information as an advocate for the arts and artists;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taking a range of projects to promote and develop the arts, often in partnership with others</a:t>
            </a:r>
            <a:r>
              <a:rPr b="1" lang="en-GB"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rts Council role in Literature</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rough direct support to writers and illustrators and through partnerships with libraries and others, the Arts Council works to create opportunities for people across the country to engage with writing from Ireland and around the wor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hildren’s Literature policy in 2009:</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hildren’s literature writers and illustrators included in funding program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aureate na nÓg initiativ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Funding for Illustrator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ursary Awar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ravel and Training Awar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thers – through partnerships with key organis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Bursary Award</a:t>
            </a:r>
            <a:endParaRPr b="0" lang="en-US" sz="4000" spc="-1" strike="noStrike">
              <a:solidFill>
                <a:srgbClr val="000000"/>
              </a:solidFill>
              <a:latin typeface="Arial"/>
            </a:endParaRPr>
          </a:p>
        </p:txBody>
      </p:sp>
      <p:sp>
        <p:nvSpPr>
          <p:cNvPr id="54" name="PlaceHolder 2"/>
          <p:cNvSpPr>
            <a:spLocks noGrp="1"/>
          </p:cNvSpPr>
          <p:nvPr>
            <p:ph/>
          </p:nvPr>
        </p:nvSpPr>
        <p:spPr>
          <a:xfrm>
            <a:off x="457200" y="1413000"/>
            <a:ext cx="8229600" cy="471312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urpose</a:t>
            </a:r>
            <a:endParaRPr b="0" lang="en-US" sz="20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earch</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nking </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evelopment of practic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uying time</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iorities</a:t>
            </a:r>
            <a:endParaRPr b="0" lang="en-US" sz="20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Quality</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alue to individual</a:t>
            </a: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For what and how much can you apply?</a:t>
            </a:r>
            <a:endParaRPr b="0" lang="en-US" sz="20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p to €15,000 per year</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a:r>
            <a:r>
              <a:rPr b="0" lang="en-IE" sz="1800" spc="-1" strike="noStrike">
                <a:solidFill>
                  <a:srgbClr val="000000"/>
                </a:solidFill>
                <a:latin typeface="Arial"/>
              </a:rPr>
              <a:t>3,000 bursaries for emerging illustrators and author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sts associated with living, materials, equipment, third-party expertise, hiring of services, production, dissemination</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dditional costs relating to a disability</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the last round 3 out of the 13 successful applications were from illustrators: Sheena Dempsey, Adrienne Geoghegan and PJ Ly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Travel and Training</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urpose</a:t>
            </a:r>
            <a:endParaRPr b="0" lang="en-US" sz="2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vel</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ining</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e see</a:t>
            </a:r>
            <a:endParaRPr b="0" lang="en-US" sz="1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riorities</a:t>
            </a:r>
            <a:endParaRPr b="0" lang="en-US" sz="2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ing</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fessional Developmen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literature, priority is given to emerging authors and illustrators</a:t>
            </a:r>
            <a:endParaRPr b="0" lang="en-US" sz="1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For what and how much can you apply?</a:t>
            </a:r>
            <a:endParaRPr b="0" lang="en-US" sz="2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p to €1,500</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vel, subsistence, fees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dditional costs relating to a disability</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Other schem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rtist in the Community – Cre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ers in Schools – Poetry Irel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ers in Prisons – Department of Justi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09:45:35Z</dcterms:created>
  <dc:creator>toby.dennett</dc:creator>
  <dc:description/>
  <dc:language>en-US</dc:language>
  <cp:lastModifiedBy>Mathilde.veldt</cp:lastModifiedBy>
  <dcterms:modified xsi:type="dcterms:W3CDTF">2013-11-07T15:02:53Z</dcterms:modified>
  <cp:revision>49</cp:revision>
  <dc:subject/>
  <dc:title>Slide 1</dc:title>
</cp:coreProperties>
</file>