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6964CC-7F27-4284-BD58-8999E0888E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69FFD-DE19-462E-8DFF-C7B6CA0F4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F05F97-7BF7-44CD-8C66-34AD926C56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8C5467-FC34-4E84-9754-9605B0878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8870F-D87B-4867-A20F-262EAD1FF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C515D-4DA1-4DCE-B226-8CC23A26D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7C2F9-1215-481A-AFFF-B2EEA4C7B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ED0BC-2D3F-4E07-9EF5-FC710BFF1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898D5-5B82-4DB7-A580-9ACE70D68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4A7FE-784E-4BAA-9B56-DCA8EB67B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8E96E-60E4-4B2C-994C-8946B6489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78E9D-4C77-40BA-A7F9-0896F7F764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6DA35-12DF-409F-A86A-E1736C141AB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artscouncil.ie/" TargetMode="External"/><Relationship Id="rId2" Type="http://schemas.openxmlformats.org/officeDocument/2006/relationships/hyperlink" Target="mailto:Sarah.bannan@artsouncil.ie" TargetMode="External"/><Relationship Id="rId3" Type="http://schemas.openxmlformats.org/officeDocument/2006/relationships/hyperlink" Target="mailto:Mathilde.veldt@artscouncil.ie" TargetMode="External"/><Relationship Id="rId4" Type="http://schemas.openxmlformats.org/officeDocument/2006/relationships/hyperlink" Target="mailto:Jennifer.lawless@artscouncil.ie" TargetMode="Externa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300" spc="-1" strike="noStrike">
                <a:solidFill>
                  <a:srgbClr val="ffffff"/>
                </a:solidFill>
                <a:latin typeface="Arial"/>
              </a:rPr>
              <a:t>Arts Council Awards</a:t>
            </a:r>
            <a:endParaRPr b="0" lang="en-US" sz="4300" spc="-1" strike="noStrike">
              <a:solidFill>
                <a:srgbClr val="000000"/>
              </a:solidFill>
              <a:latin typeface="Arial"/>
            </a:endParaRPr>
          </a:p>
        </p:txBody>
      </p:sp>
      <p:pic>
        <p:nvPicPr>
          <p:cNvPr id="42" name="Picture 4" descr="ACLogoJpegBlack_17Sep2005_Fin_KLW"/>
          <p:cNvPicPr/>
          <p:nvPr/>
        </p:nvPicPr>
        <p:blipFill>
          <a:blip r:embed="rId1"/>
          <a:stretch/>
        </p:blipFill>
        <p:spPr>
          <a:xfrm>
            <a:off x="3708360" y="1125360"/>
            <a:ext cx="1768680" cy="176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a:rPr>
              <a:t>Application Process</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Online Services System</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Application form &amp; budget</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Supporting materials</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Check list</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Common mistakes</a:t>
            </a: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a:rPr>
              <a:t>The application form</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The bas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Short and detailed descrip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Budg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Checkli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Signatu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a:rPr>
              <a:t>Detailed Description</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rtistic goals and ambitio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 expanded and detailed description of your ide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y additional and relevant financial detail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a:rPr>
              <a:t>Budgets</a:t>
            </a:r>
            <a:endParaRPr b="0" lang="en-US" sz="40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Be realist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Budgets include things lik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Living cos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Your ti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aking time out from paid employ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a:rPr>
              <a:t>Support Material</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urrent CV(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0 pages of a work in progres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eviously published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a:rPr>
              <a:t>Common Mistakes</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supporting material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t meeting the award criteria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ving it too l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a:rPr>
              <a:t>Assessment Process</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Eligibility check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Designated to tea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Assessment and recommendation (by Adviser or Head of Tea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Peer panel assessment and recommendation – delegated authority to make decis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Council (notes decisions)</a:t>
            </a: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a:rPr>
              <a:t>Assessment Criteria</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ality of the idea presen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ck record (or potential) of the applica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asibility of the entire proposal, including financial feasibilit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petitive context and available resour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c priorities of the award for which you are apply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Specific art form/art practice priorities or criteri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a:rPr>
              <a:t>Timeframe</a:t>
            </a:r>
            <a:endParaRPr b="0" lang="en-US" sz="40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From the closing date 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12 to 16 weeks for decisions for Bursar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4 to 6 weeks for decisions for Travel and Trai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a:rPr>
              <a:t>FAQs</a:t>
            </a:r>
            <a:endParaRPr b="0" lang="en-US" sz="40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Support about 2 in 10 applications per rou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Awards are often made for less than the amount reques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Work in progress: a very important piece of application…</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a:rPr>
              <a:t>What is the Arts Council?</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Statutory Agenc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Arts Act 2003</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Department of Art, Heritage and Gaeltach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Counci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Staf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a:rPr>
              <a:t>Closing Dates</a:t>
            </a:r>
            <a:endParaRPr b="0" lang="en-US" sz="40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Bursaries: 16</a:t>
            </a:r>
            <a:r>
              <a:rPr b="0" lang="en-IE" sz="2800" spc="-1" strike="noStrike" baseline="30000">
                <a:solidFill>
                  <a:srgbClr val="000000"/>
                </a:solidFill>
                <a:latin typeface="Arial"/>
              </a:rPr>
              <a:t>th</a:t>
            </a:r>
            <a:r>
              <a:rPr b="0" lang="en-IE" sz="2800" spc="-1" strike="noStrike">
                <a:solidFill>
                  <a:srgbClr val="000000"/>
                </a:solidFill>
                <a:latin typeface="Arial"/>
              </a:rPr>
              <a:t> of January 2014, 5.30pm </a:t>
            </a:r>
            <a:endParaRPr b="0" lang="en-US" sz="28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	</a:t>
            </a:r>
            <a:r>
              <a:rPr b="0" lang="en-IE" sz="1600" spc="-1" strike="noStrike">
                <a:solidFill>
                  <a:srgbClr val="000000"/>
                </a:solidFill>
                <a:latin typeface="Arial"/>
              </a:rPr>
              <a:t>(second closing date in June/July 2014, including Irish language)</a:t>
            </a:r>
            <a:endParaRPr b="0" lang="en-US" sz="1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ravel and training: Ongoing </a:t>
            </a:r>
            <a:endParaRPr b="0" lang="en-US" sz="28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	</a:t>
            </a:r>
            <a:r>
              <a:rPr b="0" lang="en-IE" sz="2000" spc="-1" strike="noStrike">
                <a:solidFill>
                  <a:srgbClr val="000000"/>
                </a:solidFill>
                <a:latin typeface="Arial"/>
              </a:rPr>
              <a:t> </a:t>
            </a:r>
            <a:r>
              <a:rPr b="0" lang="en-IE" sz="1600" spc="-1" strike="noStrike">
                <a:solidFill>
                  <a:srgbClr val="000000"/>
                </a:solidFill>
                <a:latin typeface="Arial"/>
              </a:rPr>
              <a:t>(at least six weeks before trave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Further Information</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hlinkClick r:id="rId1"/>
              </a:rPr>
              <a:t>www.artscouncil.i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ease sign up to the monthly Arts Council newslet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terature contact detail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rah Bannan, Head of Literature</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hlinkClick r:id="rId2"/>
              </a:rPr>
              <a:t>Sarah.bannan@artsouncil.ie</a:t>
            </a:r>
            <a:r>
              <a:rPr b="0" lang="en-GB" sz="1600" spc="-1" strike="noStrike">
                <a:solidFill>
                  <a:srgbClr val="000000"/>
                </a:solidFill>
                <a:latin typeface="Arial"/>
              </a:rPr>
              <a:t> / 01 618 0296</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hilde Veldt, Literature Officer</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hlinkClick r:id="rId3"/>
              </a:rPr>
              <a:t>Mathilde.veldt@artscouncil.ie</a:t>
            </a:r>
            <a:r>
              <a:rPr b="0" lang="en-GB" sz="1600" spc="-1" strike="noStrike">
                <a:solidFill>
                  <a:srgbClr val="000000"/>
                </a:solidFill>
                <a:latin typeface="Arial"/>
              </a:rPr>
              <a:t> / 01 619 7807</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ennifer Lawless, Literature Assistant</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hlinkClick r:id="rId4"/>
              </a:rPr>
              <a:t>Jennifer.lawless@artscouncil.ie</a:t>
            </a:r>
            <a:r>
              <a:rPr b="0" lang="en-GB" sz="1600" spc="-1" strike="noStrike">
                <a:solidFill>
                  <a:srgbClr val="000000"/>
                </a:solidFill>
                <a:latin typeface="Arial"/>
              </a:rPr>
              <a:t> / 01 618 025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a:rPr>
              <a:t>What does the Arts Council do?</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Our role is to:</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imulate public interest in the art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mote knowledge, appreciation and practice of the art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ist in improving standards in the art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ise the Minister and other public bodies on the arts.</a:t>
            </a:r>
            <a:r>
              <a:rPr b="0"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a:rPr>
              <a:t>What does the Arts Council do?</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In practice this means -</a:t>
            </a:r>
            <a:endParaRPr b="0" lang="en-US" sz="28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ing financial assistance, mainly, but not exclusively, to artists and arts organisations; we also support others who develop and promote the arts; </a:t>
            </a: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ffering advice and information on the arts to Government and to others; </a:t>
            </a: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blishing research and information as an advocate for the arts and artists; </a:t>
            </a: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dertaking a range of projects to promote and develop the arts, often in partnership with others</a:t>
            </a:r>
            <a:r>
              <a:rPr b="1" lang="en-GB"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a:rPr>
              <a:t>Arts Council role in Literature</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hrough direct support to writers and illustrators and through partnerships with libraries and others, the Arts Council works to create opportunities for people across the country to engage with writing from Ireland and around the worl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Children’s Literature policy in 2009:</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hildren’s literature writers and illustrators included in funding programm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Laureate na nÓg initiative</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a:rPr>
              <a:t>Funding for Illustrators</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Bursary Awar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ravel and Training Awar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Others – through partnerships with key organisa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a:rPr>
              <a:t>Bursary Award</a:t>
            </a:r>
            <a:endParaRPr b="0" lang="en-US" sz="4000" spc="-1" strike="noStrike">
              <a:solidFill>
                <a:srgbClr val="000000"/>
              </a:solidFill>
              <a:latin typeface="Arial"/>
            </a:endParaRPr>
          </a:p>
        </p:txBody>
      </p:sp>
      <p:sp>
        <p:nvSpPr>
          <p:cNvPr id="54" name="PlaceHolder 2"/>
          <p:cNvSpPr>
            <a:spLocks noGrp="1"/>
          </p:cNvSpPr>
          <p:nvPr>
            <p:ph/>
          </p:nvPr>
        </p:nvSpPr>
        <p:spPr>
          <a:xfrm>
            <a:off x="457200" y="1413000"/>
            <a:ext cx="8229600" cy="4713120"/>
          </a:xfrm>
          <a:prstGeom prst="rect">
            <a:avLst/>
          </a:prstGeom>
          <a:noFill/>
          <a:ln w="0">
            <a:noFill/>
          </a:ln>
        </p:spPr>
        <p:txBody>
          <a:bodyPr anchor="t">
            <a:normAutofit fontScale="93000"/>
          </a:bodyPr>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urpose</a:t>
            </a:r>
            <a:endParaRPr b="0" lang="en-US" sz="20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Research</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inking </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Development of practice</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Buying time</a:t>
            </a:r>
            <a:endParaRPr b="0" lang="en-US" sz="1800" spc="-1" strike="noStrike">
              <a:solidFill>
                <a:srgbClr val="000000"/>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riorities</a:t>
            </a:r>
            <a:endParaRPr b="0" lang="en-US" sz="2000" spc="-1" strike="noStrike">
              <a:solidFill>
                <a:srgbClr val="000000"/>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Quality</a:t>
            </a:r>
            <a:endParaRPr b="0" lang="en-US" sz="1800" spc="-1" strike="noStrike">
              <a:solidFill>
                <a:srgbClr val="000000"/>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Value to individual</a:t>
            </a:r>
            <a:endParaRPr b="0" lang="en-US" sz="1800" spc="-1" strike="noStrike">
              <a:solidFill>
                <a:srgbClr val="000000"/>
              </a:solidFill>
              <a:latin typeface="Aria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For what and how much can you apply?</a:t>
            </a:r>
            <a:endParaRPr b="0" lang="en-US" sz="20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Up to €15,000 per year</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t>
            </a:r>
            <a:r>
              <a:rPr b="0" lang="en-IE" sz="1800" spc="-1" strike="noStrike">
                <a:solidFill>
                  <a:srgbClr val="000000"/>
                </a:solidFill>
                <a:latin typeface="Arial"/>
              </a:rPr>
              <a:t>3,000 bursaries for emerging illustrators and authors</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sts associated with living, materials, equipment, third-party expertise, hiring of services, production, dissemination</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dditional costs relating to a disability</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 the last round 3 out of the 13 successful applications were from illustrators: Sheena Dempsey, Adrienne Geoghegan and PJ Lyn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a:rPr>
              <a:t>Travel and Training</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Purpose</a:t>
            </a:r>
            <a:endParaRPr b="0" lang="en-US" sz="2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ravel</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raining</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me see</a:t>
            </a:r>
            <a:endParaRPr b="0" lang="en-US" sz="1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Priorities</a:t>
            </a:r>
            <a:endParaRPr b="0" lang="en-US" sz="2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etworking</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Professional Development</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 literature, priority is given to emerging authors and illustrators</a:t>
            </a:r>
            <a:endParaRPr b="0" lang="en-US" sz="1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For what and how much can you apply?</a:t>
            </a:r>
            <a:endParaRPr b="0" lang="en-US" sz="2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Up to €1,500</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ravel, subsistence, fees </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dditional costs relating to a disability</a:t>
            </a: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5712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a:rPr>
              <a:t>Other schemes</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Artist in the Community – Creat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Writers in Schools – Poetry Irelan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Writers in Prisons – Department of Justic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2T09:45:35Z</dcterms:created>
  <dc:creator>toby.dennett</dc:creator>
  <dc:description/>
  <dc:language>en-US</dc:language>
  <cp:lastModifiedBy>Mathilde.veldt</cp:lastModifiedBy>
  <dcterms:modified xsi:type="dcterms:W3CDTF">2013-11-07T15:02:53Z</dcterms:modified>
  <cp:revision>49</cp:revision>
  <dc:subject/>
  <dc:title>Slide 1</dc:title>
</cp:coreProperties>
</file>